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674-295A-48B3-9747-647FDF3B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1F5-D99C-4ADE-930C-9FA6E71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02B-2055-4B26-AAA0-C7FD8932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D32-9F32-48AD-9540-01424BD6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41B9-4CC8-4412-B7DB-A978DA30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A6BA-1EC2-4B55-88BD-558AD65F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4102-5098-4956-95B3-A657F0FB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ADEE-370F-42A3-A8B0-568D2D68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64F7-2BD0-4848-8DD9-242F7313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8921-C6D4-49F2-927F-2561A135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A7F3-FC34-41C2-A4F2-B45903A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190-2868-4516-AB62-BDAD282C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DB65-538F-4B58-923D-E0570AC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F1B8-39D7-4C53-80DE-90E002C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11BF-8B1F-4ED4-99A8-2FC50CB3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5C8F-D57D-4B97-84EE-C1852B12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F649-F967-471D-87A1-AB560D5D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2F5-AF0E-48ED-B923-9D3B467D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DAF-22CD-4300-AB48-19133D76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0F0-8EE8-4CD3-A164-EE21C058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229-A768-499F-A4FD-21AB8079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7C7-6D63-401B-9E5E-9F12393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655-330A-47D0-AC4D-3BCD965A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842-FA4C-41D9-8EC6-CBC8C637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336E-E77B-43AE-8674-B1CC72AC33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2AE1-719B-41E7-A949-6927508111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First Fruits Giving: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loring The Spiritual Discipline of Ti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C900198345[1]"/>
          <p:cNvPicPr/>
          <p:nvPr/>
        </p:nvPicPr>
        <p:blipFill>
          <a:blip r:embed="rId1"/>
          <a:stretch/>
        </p:blipFill>
        <p:spPr>
          <a:xfrm>
            <a:off x="2590920" y="2057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533520" y="5410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iritual Practices Conference-------Spiritual Formation Task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 Conference Board of Laity-----October 1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193840" y="5446800"/>
            <a:ext cx="420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History: Development Stages of Tithing    I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raelites were more settled as homeowners than on a pilgrim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ng Josiah (1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year)demanded that all local shrines be destroyed and that all offerings come to Jerusalem. (Deuteronomy 12:5-7, 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Faithful were instructed to bring 1/10 of their increase to The Te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History: Development Stages of Tithing    II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emple in Jerusalem becomes the center of all religious act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ribe of Levi becomes the caretakers of the Temp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ople Instructed to bring their tithe to support the Temple. (Numbers 18:21, 27-2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: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of Giving known as the Lord’s Tithe (Leviticus 27:3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 of Thanksgiving &amp; Worship (Deut.12:5-7,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 Tithe every third year for widows &amp; orphans (Deut.14:28-2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: NT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sus Himself clearly upheld the practice of the Tith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 assumes that tithing is an accepted f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portunity to tithe is one of God’s greatest bless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tthew 23:2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tithe is mentioned as still being in eff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: NT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n all You 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ve all You 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ll You 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eans to receive God’s Grace in our l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us Grow deeper in our relationship with G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lives are transformed as we seek to draw closer to G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Content Placeholder 5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0292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II. Why Tithing is Important to 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is a means of giving to God by covenant communities of faithful people throughout the 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contributes to our Spiritual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is a means of expressing your covenant relationship with God. (Duet. 14:2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Why Tithing is Import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brings God’s widsom and discipline into your finances helping break the power of materialism in your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serves as a practical reminder that God blesses us abundantly with every good 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allows us to experience God’s care in ways that we would otherwise not experience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I Kings 17, Prov.3:9-1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Why Tithing is Import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helps maintain an eternal perspective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1 Timothy 6:18-19, Matt.6:19-21,Hebrew 6:10, 1 Samuel 30:2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hing Strengthens the ministry and stability of your church and its miss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cts 2:42-47)4:32, I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inth.9:12-1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maintains church buildings in good repair for worship, fellowship &amp; study of God’s Word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II Chronicles 24:4-14, Kings 12: 2-16, I Cronicles 29:2-19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rodu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cilitator-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ld Love, RH 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MC900310274[1]"/>
          <p:cNvPicPr/>
          <p:nvPr/>
        </p:nvPicPr>
        <p:blipFill>
          <a:blip r:embed="rId1"/>
          <a:stretch/>
        </p:blipFill>
        <p:spPr>
          <a:xfrm>
            <a:off x="7467480" y="4495680"/>
            <a:ext cx="1405080" cy="18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Why Tithing is Important to 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provides the means to maintain the livelihood of the clergy and staff of your church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I Corinth.9:9-11,14, I Timothy 5:17-18, Phillipians 4:15-19, Galat.6:6, Luke 8:3, II Kings 4:8-10)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First Fruits Giving: Tithing</a:t>
            </a:r>
            <a:br>
              <a:rPr sz="3800"/>
            </a:b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 Experiencing the Practice    III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5884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urpose of tithing is to secure not the tithe, but the tither, not the gifts but the giver, not the possession but the posessor, not your money but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Go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ithing mean to you? Share your personal experiences with ti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Christians really tit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what spirit and attitude should you tit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 it should be noted that anyone who tithes should do so willingl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though God equates withholding tithes with robbing Him Malachi 3:8-10, He does not force anyone to tith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Content Placeholder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inners, write a gratitude list of five things you are thankful for each 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time you tithe, Thank God for the opportunity to give and the blessings in your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are not already tithing, begin to do so. The key is to trust God. Start gradually if you can not start with 10 %. Increase the percentage period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846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ctive stewardship committee separate from finance committ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Biblical foundation of tithing and stewardship using Bible study, Sunday School Stewardship Moments during worship, small group stud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hasize importance of tithing as a Spiritual Discip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ebrate the time of offering as part of Worship, (Testimonies of Tith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 several means to give, Electronic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Funds Trans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thru church 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bit Card, Credit C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Content Placeholder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Experiencing the Practice of Tith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ing it Through” illustration of tithing found in the book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ough:  Discovering Joy Through Simpl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Generosity”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m Hami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Workshop Outline: </a:t>
            </a:r>
            <a:br>
              <a:rPr sz="20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lfaen"/>
              </a:rPr>
              <a:t>History of Ti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lfaen"/>
              </a:rPr>
              <a:t>Why Tithing is Important to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lfaen"/>
              </a:rPr>
              <a:t>Experiencing the Prac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lfaen"/>
              </a:rPr>
              <a:t>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Proportional Giving C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0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77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Proportional Giving C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Content Placeholder 5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br>
              <a:rPr sz="3800"/>
            </a:b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Resources---------IV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ing &amp; Tithing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----Larry Burk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ough: Discovering Joy Through Simplicity and Generosity”--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m Ham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ebration of Discip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-----Richard F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“test me in this”  ----Douglas Le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y B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Tithing as a Spiritual Discip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1579680" y="1600200"/>
            <a:ext cx="641340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First Fruits Giving: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Fruit Giving is really Ti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the beginning of Old Testament Times, the tithe was given off the to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ing a choice to give to the work of God First before consideration of other bills, expenses or oblig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First Fruits Giving: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ing to give to one’s church a percentage of one’s income not because of the law, but out of humility, love and gratitude for the blessings that Almighty God provi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C900310390[1]"/>
          <p:cNvPicPr/>
          <p:nvPr/>
        </p:nvPicPr>
        <p:blipFill>
          <a:blip r:embed="rId1"/>
          <a:stretch/>
        </p:blipFill>
        <p:spPr>
          <a:xfrm>
            <a:off x="6172200" y="3809880"/>
            <a:ext cx="15796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 of Tithing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of the Law Given in Old Testa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ing was the means from which the Levites could survive as caretakers of the Te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of tithing predates the law by hundreds of y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raham paid tithe to Melchized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Genesis 14:2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History of Tit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at time there was no Temple, no Priesthood, no La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hes were given out of gratitude for the blessings they had receiv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% did not originate at Mt. Sinai. But confirmed th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History: Development Stages of Tithing 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xodus 22:29-30) Israelites instructed to bring forth the first fruits of their lab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ment that all that they have comes from God. (Leviticus 27:3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0:37:07Z</dcterms:created>
  <dc:creator>Don Love</dc:creator>
  <dc:description/>
  <dc:language>en-US</dc:language>
  <cp:lastModifiedBy>Don Love</cp:lastModifiedBy>
  <dcterms:modified xsi:type="dcterms:W3CDTF">2012-11-01T02:57:56Z</dcterms:modified>
  <cp:revision>30</cp:revision>
  <dc:subject/>
  <dc:title>First Fruits Giving!</dc:title>
</cp:coreProperties>
</file>